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F6D-4389-4300-9715-B7A1591B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930-D4E6-4DC8-BD93-6815B8E4D3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La c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refiere en general a los dramas del siglo de 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divide en tres a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Flex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conforman a las unidades de tiempo, lugar y 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mezclan los elementos trágicos y cómicos tanto como los personajes de diferentes gru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Existe una métrica apropiada para el sujeto y el cont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Utiliza culteranismos y sobre todo conceptis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Existe una variedad de temas, técnicas literarias y tipos de person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48F-E307-4906-9A03-3D0B63E5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821-6BB0-4B61-BFBD-391884F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30F-5927-45EA-975B-D367C36D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BC5-0EA3-4A5D-9987-71EDE898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29F2-6B52-4B78-A242-170ADC9E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A9DD-FC6D-4AC4-9DD0-7207340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CC01-1BBC-491E-AC44-B4B3613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0F15-7ECA-4FC4-B3E3-2D9F22D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256-44C5-4C9B-85D4-3210213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A06-4A05-4B70-AE29-66711523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ACB2-FC10-4DBA-A0DB-5B1EF4E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F9B-EBAE-4C0A-A1FC-C29DF07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2E20-7845-4957-9188-D1FD8D4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490-4512-492D-8A40-874F60A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7F2A-1581-40AA-80DF-F6CA4157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BB4D-5749-4AB1-95E3-81271174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9F81-D014-4767-9215-9017FEC9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8B8-61B5-4153-B12D-1BA987F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86E-596A-4297-AAEB-3C0D8685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E97-1AAE-40F0-9224-8F7CA175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342-8CD7-4849-8A99-8979167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20C-858C-4602-BB2E-7137169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4A6-2BEB-4796-9E94-1801D07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0D4-0467-4C68-A2B3-5B4D33D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589-D6C6-4637-AF18-32919299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22E-7247-4F82-A45A-2E434A66A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400" spc="-1" strike="noStrike">
                <a:solidFill>
                  <a:srgbClr val="dbbd71"/>
                </a:solidFill>
                <a:latin typeface="Arial"/>
              </a:rPr>
              <a:t>El burlador de Sevill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Gabriel “Tirso de Molina” Téll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spaña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(¿1571?-164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personaj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a villana y el señ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rústico y el gentilhom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a mujer desenvuelta de espíritu humano y verdad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libertina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s la burla de Don Juan respecto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Mund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r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us ami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asesinato de don Gonza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u criado que lo apoya en todas sus fechorí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Religi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igles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tumba del Comenda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estat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mue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s paradoj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Del mundano hacia el religi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símbol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Catalinón—la consciencia de Don Juan o la voz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n el primer encuentro de Don Juan y el convidado de piedra, encontramos símbolos de una lucha interi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vela—la luz del entendimiento de lo 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espada—para defenderse de un ataque 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fuego que siente Don Juan en la mano del convidado—la venganza de Dios y el inf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último rechazo d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 biografí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Su biografía es un miste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Podría ser hijo ilegítimo del poderoso duque de Osu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xplicaría sus críticas de la moraleja de la sociedad de su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A los 17, se hizo fra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s uno de los más destacados del siglo de o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Fue un recluso apartado de la vida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Y un agudo crítico de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Filosofías del a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os nobles son v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Todos los hombres son iguales ant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escánda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n 1625, se vio metido en un escándalo. Fue acusado de obscenidad y de retratar vicios en sus obras, sancionado y desterrado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Posiblemente sus críticos eran literarios o políticos satirizados en sus ob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Dejó de escribir poco después del escánda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Sin duda, el Consejo de Castilla estaba inquieto ante la crítica presente en sus obras frente a la laxitud moral y política de la clase no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Calificaron sus comedias de “proanas y de malos incentivos y ejemplos”, le ordenaron a abandonar su ofico como au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 comed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os dramas del siglo de 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Tres a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Se mezclan los elementos tanto como los personaj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a 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a variedad de temas, técnicas literarias y tipos de personaj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profundo y complejo retrato psicológico de sus personaj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Se puede comparar con Shakespea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lenguaje pic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objetividad de sus detalles dra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brío cómico de sus esce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Don Juan Tenor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mito de Don Juan ya era conoc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Sin embargo, nadie había logrado convertir el personaje laberinto en un carácter univer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e burla del honor de los homb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ngaña la integridad de las muje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s prototipo del hombre ma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No sólo abusador si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Elegante y seduc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Huye de la l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Desafía otros pode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Ha sido el personaje principal para otros autores famo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José de Zorril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Lord By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George Bernard Sh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convidado de pied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Otro mito conocido del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Proviene del folklore medie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 hombre muerto invitado por un mozo irrespetu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teatro español del tiempo tenía muchos dramas donde existían estatuas anim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debat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Teológ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naturaleza y el límite de la misericordia div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mensaje es claro:  La misericordia de Dios es grande pero tiene sus límites y que castigará toda mal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tem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Principal—La salvación espiri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propósito del autor era hacer que la sociedad degenerada prestara atención al castigo de Don Juan con tal de que se arrepintieran antes de morir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ibre albedr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mbre puede salvarse por medio de un deseo íntegro de buscar el perdón d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respons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s la responsabilidad de cada persona de arrepenti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Tem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Carpe di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Si tan largo me lo fiái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filosofía de Don Ju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La misericordia de Dios es tan grande que otorga el perdón siempre cuando se p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iempre pensaba que podría arrepentirse en el futuro de todas las maldades que hacía y por eso se enfoca en sus deseos del presente y demora el día de su arrepentimiento.  Como sabemos, cuando llega el día del castigo es ya demasiado tarde para pedir perdón por lo que ha h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justicia del mona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importancia del ho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nor mascu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integridad femen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nor (intrínseco) vs. La honra (extrínse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restauración del presumido “orden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sacrile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23:10:51Z</dcterms:created>
  <dc:creator>Preferred Customer</dc:creator>
  <dc:description/>
  <dc:language>en-US</dc:language>
  <cp:lastModifiedBy>Mami</cp:lastModifiedBy>
  <dcterms:modified xsi:type="dcterms:W3CDTF">2010-07-27T02:25:03Z</dcterms:modified>
  <cp:revision>12</cp:revision>
  <dc:subject/>
  <dc:title>El burlador de Sevilla</dc:title>
</cp:coreProperties>
</file>